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BF2-B1B6-47EC-B5BC-5BFA0C43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534-F403-460E-954C-D21F086C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B92-8A7C-4F2E-A5D7-B5209F66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A31-8252-4837-ACDB-3AFF5C4F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0FB-5A51-47AF-8DE8-C646D969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8FB-7E08-4406-9E54-10067C9B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5A0-9D99-4585-93FB-FFEF0888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F99-7659-4D33-907A-18794EEE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3F6-4C61-4EBF-9FDE-1144786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32E-10A6-46B6-BD55-9CE8510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558-5C61-4F3A-A929-26B999AA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0FD-8471-4FF2-AE8D-B592906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AAE1-6BAA-4DBA-A0F0-2E7FF7E6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x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9 x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2 x 1  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multiply fractions and mixed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ion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1 rolls 2 dice (one becomes numerator, the other denomin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#2 doe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fractions.  Be sure to record your work on your paper – it will be turn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swers to be sure you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completing as many problems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¾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½ x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4/5 x  1  3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60 12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2:22:27Z</dcterms:created>
  <dc:creator>ccps</dc:creator>
  <dc:description/>
  <dc:language>en-US</dc:language>
  <cp:lastModifiedBy>ccps</cp:lastModifiedBy>
  <dcterms:modified xsi:type="dcterms:W3CDTF">2010-03-29T15:20:03Z</dcterms:modified>
  <cp:revision>5</cp:revision>
  <dc:subject/>
  <dc:title>Warm-up:</dc:title>
</cp:coreProperties>
</file>